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456-29C8-4CCB-A9F5-1585F950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FB4-3A28-410E-AAED-8F9F077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F09-59CA-4C94-B0BF-6C909C77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774-2C18-4805-81FE-C6D07E5D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EB4-7570-4F2E-A62D-CFB7521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540-6F8E-4654-87C5-9F226BEB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AED-1DA5-4447-8395-7AAC1FA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4D9-9F36-4148-ACAB-DDF3787A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78C-A4D3-4BA1-8B30-1F999676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40B-8F7B-4EF3-AB21-5B82D203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E38-E37C-4941-AC60-E7ADC7E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145-E7BA-4453-94AB-FE4B7B9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82F-45CE-4B10-AA55-839569A7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298520" y="2219400"/>
            <a:ext cx="651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h the intention of remitting Original Sin … by the person doing the bap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243080" y="2895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025640" y="5467320"/>
            <a:ext cx="70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155680" y="396252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200320" y="4429080"/>
            <a:ext cx="47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200320" y="489600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nessed by  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652840" y="3429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chael Bizzaro</cp:lastModifiedBy>
  <dcterms:modified xsi:type="dcterms:W3CDTF">2020-12-06T02:44:14Z</dcterms:modified>
  <cp:revision>11</cp:revision>
  <dc:subject/>
  <dc:title>Slide 1</dc:title>
</cp:coreProperties>
</file>